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58C357F-16AB-448E-94BF-3FFD34FDBF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Corruption Perception Index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PI results and Serb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C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cluded in six researches which are taken into consideration when creating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s published during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ing by certain researches is fro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 is in acceptable limit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Arial"/>
              </a:rPr>
              <a:t>CORRUTION PERCEPTIONS INDEX 2006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802800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rmer socialist countries in Eu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gary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h Republic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k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a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a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rbi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org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cedoni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enegro 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in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u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ex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479736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1341360"/>
          <a:ext cx="7777080" cy="3294000"/>
        </p:xfrm>
        <a:graphic>
          <a:graphicData uri="http://schemas.openxmlformats.org/drawingml/2006/table">
            <a:tbl>
              <a:tblPr/>
              <a:tblGrid>
                <a:gridCol w="723960"/>
                <a:gridCol w="1292040"/>
                <a:gridCol w="1163880"/>
                <a:gridCol w="780840"/>
                <a:gridCol w="719280"/>
                <a:gridCol w="720720"/>
                <a:gridCol w="719280"/>
                <a:gridCol w="792000"/>
                <a:gridCol w="865080"/>
              </a:tblGrid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6,</a:t>
                      </a: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4.1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ia (SC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3.4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3.3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ene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3.3 </a:t>
                      </a: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987640" y="5373720"/>
          <a:ext cx="2808360" cy="21034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o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nidad and Tob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on of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SC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rbi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70040" y="2673360"/>
          <a:ext cx="37926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2673360"/>
                    <a:ext cx="37926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42920" y="1413000"/>
          <a:ext cx="7491600" cy="4521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1413000"/>
                    <a:ext cx="7491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ent rankings of Serb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20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with catastrophic picture of Serbi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2003 – 2007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perception changes slowl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in the society of highly corrupted countri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ing of Serbia similar as neighbors’ from ex SF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ncy of minimal growth hel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at would bring to rapid change of corruption perception aren’t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partially caused by external facto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searches conducted for Montenegro and Kosov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ernal ques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g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progres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nges 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practice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”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the last yea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wi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known what is included and how will i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lan and international obligat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o efficient mechanism for thei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established new independent state orga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 of work of already 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pr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ing and trials in several large c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ficient capacities and delay of new investigation techniques’ implement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ts in selectivit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 corrup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wor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1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onstitu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ing o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il divis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control of election campaign expen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asures the level in which the corruption of public servants and politicians is percei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Index is made on the bases of fourteen different researches and studies, which were conducted by twelve independent institutions questioning businessmen, analysts and local exper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Corruption Perception Index for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best and the wor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523880"/>
          <a:ext cx="3809880" cy="4494600"/>
        </p:xfrm>
        <a:graphic>
          <a:graphicData uri="http://schemas.openxmlformats.org/drawingml/2006/table">
            <a:tbl>
              <a:tblPr/>
              <a:tblGrid>
                <a:gridCol w="716400"/>
                <a:gridCol w="1169280"/>
                <a:gridCol w="896400"/>
                <a:gridCol w="1027800"/>
              </a:tblGrid>
              <a:tr h="209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0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00000" y="1557360"/>
          <a:ext cx="7704360" cy="2600280"/>
        </p:xfrm>
        <a:graphic>
          <a:graphicData uri="http://schemas.openxmlformats.org/drawingml/2006/table">
            <a:tbl>
              <a:tblPr/>
              <a:tblGrid>
                <a:gridCol w="1782720"/>
                <a:gridCol w="1779840"/>
                <a:gridCol w="1782720"/>
                <a:gridCol w="235908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resear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Zea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00000" y="4076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ries recognized as the most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12536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ries recognized as the least corrup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4508640"/>
          <a:ext cx="7704360" cy="2166840"/>
        </p:xfrm>
        <a:graphic>
          <a:graphicData uri="http://schemas.openxmlformats.org/drawingml/2006/table">
            <a:tbl>
              <a:tblPr/>
              <a:tblGrid>
                <a:gridCol w="1798920"/>
                <a:gridCol w="1801800"/>
                <a:gridCol w="1726920"/>
                <a:gridCol w="237672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resear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an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PI goa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measure how much is the corruption perceived in public sector by businessmen, experts and analysts of ris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promote comparative comprehension of the level of corru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offer overview of decision makers’ points of view which  affects the market and invest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stimulate scientific researche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analysis of the cause and consequences of corruption, in international and domestic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contribute to building the public consciousness about corruption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and create climate for cha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hodolog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CPI is 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esearch of group of researches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ich is conducted every year and provides information which can continuously be monito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Minimum three researches 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- Research includes previous two years</a:t>
            </a:r>
            <a:endParaRPr b="0" lang="en-US" sz="2400" spc="-1" strike="noStrike">
              <a:solidFill>
                <a:srgbClr val="05193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ries are scored on the scale from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10 (very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 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ean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) to 0 (very corrupted)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ception is questioned and not the facts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.g. number of convictions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umber of media texts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rruption determined as 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buse of public authorities for private interests</a:t>
            </a: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5805360"/>
            <a:ext cx="234000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ossibility of compa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Index represents overview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of points of view of businessmen and analysts about certain countries’ situation and doesn’t reflect necessarily  trends for certain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Score is more relevant than the rank on the list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because the number of countries included in the list is constantly increasing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Index changes of certain countries can be a result of sample changes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–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researches taken into consideration when creating the inde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Disadvantages and advantages of 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dex doesn’t reflect the level of efforts invested into fight against corruption </a:t>
            </a: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veloping countries can be shown in worse light due to prejudice and pre convictions of foreign investors</a:t>
            </a: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at is why other instruments for measuring corruption exist</a:t>
            </a: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Other instruments for measuring corruption also come to similar results as </a:t>
            </a: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s good chance to promote public debate on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s good stimulation for conducting furth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PI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cludes almost all the worl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sources relevant to Serb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U: Economist 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: Freedom House, Nations in Tran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: Merchant Internation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F: Global Competitiveness Report of the 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I: Bertelsmann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: Global Insight, previous World Markets Research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source of information in initial researches relevant to Serb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1557360"/>
          <a:ext cx="8101080" cy="441324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H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residents’ perception; examinees mostly come from developed countrie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I, EIU,GI,MI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s engaged from foreign bank/instit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s’ perception;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ees are mostly local experts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businessmen and multinational companie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3-27T13:33:46Z</dcterms:modified>
  <cp:revision>12</cp:revision>
  <dc:subject/>
  <dc:title>Slide 1</dc:title>
</cp:coreProperties>
</file>