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0E925CC-6F1E-434D-B105-3AD9AFCB1D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30160"/>
            <a:ext cx="77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5193c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5193c"/>
              </a:solidFill>
              <a:latin typeface="Arial"/>
            </a:endParaRPr>
          </a:p>
          <a:p>
            <a:pPr lvl="2" marL="914400" indent="38160" algn="ctr">
              <a:lnSpc>
                <a:spcPts val="26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11d26"/>
                </a:solidFill>
                <a:latin typeface="Arial"/>
              </a:rPr>
              <a:t>www.</a:t>
            </a: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transparentnost.org.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buhvaćena 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traživanja koja su uzeta u obzir pri sačinjavanju inde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raživanja objavljena tokom 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ngiranje po pojedinim istraživanjima kreće se od 2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o 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na devijacija u prihvatljivim granicama (0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9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Arial"/>
              </a:rPr>
              <a:t>CORRUTION PERCEPTIONS INDEX 2006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802800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Bivše socijalističke zemlje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 Evrop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e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t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đar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ešk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a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to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ga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rvat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rbija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uz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na Gora    3.3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rme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kr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s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rus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53352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87640" y="5373720"/>
          <a:ext cx="2808360" cy="21034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1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b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z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udijska Arab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nidad i Tob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75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173400" y="4869000"/>
            <a:ext cx="21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  m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1341360"/>
          <a:ext cx="7777080" cy="3294000"/>
        </p:xfrm>
        <a:graphic>
          <a:graphicData uri="http://schemas.openxmlformats.org/drawingml/2006/table">
            <a:tbl>
              <a:tblPr/>
              <a:tblGrid>
                <a:gridCol w="723960"/>
                <a:gridCol w="1292040"/>
                <a:gridCol w="1163880"/>
                <a:gridCol w="780840"/>
                <a:gridCol w="719280"/>
                <a:gridCol w="720720"/>
                <a:gridCol w="719280"/>
                <a:gridCol w="792000"/>
                <a:gridCol w="865080"/>
              </a:tblGrid>
              <a:tr h="98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 200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 20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6,</a:t>
                      </a:r>
                      <a:r>
                        <a:rPr b="1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vat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4.1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bija (SC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3.4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3.3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na G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edon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3.3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Evolucija SCG i Srb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6160" y="2676600"/>
          <a:ext cx="378144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676600"/>
                    <a:ext cx="378144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724280" y="1733400"/>
          <a:ext cx="3810240" cy="17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733400"/>
                    <a:ext cx="38102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26920" y="1413000"/>
          <a:ext cx="7704360" cy="4751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1413000"/>
                    <a:ext cx="77043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Dosadašnja rangiranja Srb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aci iz 2000-te: suočavanje sa katastrofalnom slikom o Srbiji; 2003 – 2007 : Negativna percepcija se sporo menja, i dalje u krugu visoko korumpiranih zemalja; plasman Srbije sličan kao kod suseda iz bivše SF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držan minimalan trend rasta – ne primenjuju se mere koje bi dovele do brze promene percepcije koru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predak delimično uzrokovan spoljnim činiocima (posebna istraživanja koja se rade za Crnu Goru i Koso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čito pitanje: Koje promene “na terenu” se odražavaju na napreda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Promene “na terenu” u poslednjoj godin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itička volja: 5. prioritet, ne zna se šta sve obuhvata i kako će se sprov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rategija, akcioni plan i međunarodne obaveze: i dalje nema delotvornog mehanizma za njihovo sprovođ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vencija: konačno formirani novi nezavisni državni organi; opstrukcija rada već postojeć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presija: hapšenja i suđenja u nekoliko velikih slučajeva; nedovoljni kapaciteti i odlaganje primene novih istražnih tehnika; sumnje u selektiv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itička korupcija: pogoršanje (čl. 102 Ustava, opstajanje sistema “podele plena”, neadekvatna kontrola troškova izborne kampan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81480" y="838080"/>
            <a:ext cx="3962160" cy="4876920"/>
            <a:chOff x="5181480" y="838080"/>
            <a:chExt cx="3962160" cy="4876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181480" y="83808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37440" y="83808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521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ri stepen u ko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m se opaža korumpiranost javnih službenika i političa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se sačinjava na osnovu 1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različitih istraživanja i studija, koje je sprovelo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nezavisnih institucija ispitujući preduzetnike, analitičare i lokalne stručnj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Indeks percepcije korupcije za 20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PI 20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- Najbolji i naj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j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42920" y="1268280"/>
          <a:ext cx="7274160" cy="2600280"/>
        </p:xfrm>
        <a:graphic>
          <a:graphicData uri="http://schemas.openxmlformats.org/drawingml/2006/table">
            <a:tbl>
              <a:tblPr/>
              <a:tblGrid>
                <a:gridCol w="1783080"/>
                <a:gridCol w="1782720"/>
                <a:gridCol w="1780920"/>
                <a:gridCol w="192744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 (0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 istra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i Ze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58920" y="400536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836640"/>
            <a:ext cx="70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epirane kao najmanje korumpi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42920" y="4437000"/>
          <a:ext cx="7274160" cy="223668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729080"/>
                <a:gridCol w="1944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 (0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 istra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an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l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unapredi komparativno razumevanje nivoa korup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ponudi presek viđenja donosilaca odluka koje utiču na trgovinu i investi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Metodolog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CPI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 “istraživanje grupe istraživanja” koje se odvija iz godine u godinu i pruža podatke koji se mogu kontinuirano pratiti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Minimum 3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a po zemlji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e pokriva prethodne </a:t>
            </a: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 godine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Zemlje se boduju na skali o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1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 ‘čiste’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o 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mpirane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spituje se percepcija (opažanje) a ne činjenice (npr. broj osuda, broj tekstova u mediji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pcija određena kao “zloupotreba javnih ovlašćenja za privatnu korist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Mogućnost poređe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predstavlja presek viđenja poslovnih ljudi i analitičara za prilika u pojedinim zemljama i ne odražava nužno trendove za pojedine god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Skor je relevantniji od mesta na tabeli (zato što se broj država koje su uključene na listu stalno poveća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Promene indeksa kod pojedinih država mogu biti rezultat promene uzorka – istraživanja koja su uzeta u obzir pri sačinjavanju indek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Nedostaci i prednost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Indeks ne odražava stepen napora uloženih u borbi protiv korup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Zemlje u razvoju mogu biti prikazane u lošijem svetlu usled pristrasnosti i predubeđenja stranih investitora (zato postoje i druga sredstva za merenje korup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I druga sredstva za procenu korupcije dovode do sličnih rezultata kao i 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je dobra šansa da se unapredi javna rasprava o korup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je dobar podsticaj za sprovođenje daljih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obuhvata gotovo sve države sv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i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relevantni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74160" indent="-7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U: Economist 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-7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: Freedom House, Nations in Tran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-7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: Merchant Internationa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-7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F: Global Competitiveness Report of the 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-7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I: Bertelsmann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-7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: Global Insight, ranije World Markets Research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800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19800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 podataka u inicijalnim istraživanjima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relevantnim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557360"/>
          <a:ext cx="8101080" cy="4395600"/>
        </p:xfrm>
        <a:graphic>
          <a:graphicData uri="http://schemas.openxmlformats.org/drawingml/2006/table">
            <a:tbl>
              <a:tblPr/>
              <a:tblGrid>
                <a:gridCol w="844560"/>
                <a:gridCol w="2751120"/>
                <a:gridCol w="4505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ora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žanja nerezidenat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itanici uglavnom potiču iz razvijenih zemalj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I,EIU,GI,MI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čnjaci angažovani od strane bank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institucij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F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žanja rezidenat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pitanici su uglavnom lokalni stručnjaci, lokalni poslovni ljudi i multinacionalne fir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Kancelarija</cp:lastModifiedBy>
  <cp:lastPrinted>2001-02-20T16:28:36Z</cp:lastPrinted>
  <dcterms:modified xsi:type="dcterms:W3CDTF">2010-07-19T12:47:07Z</dcterms:modified>
  <cp:revision>15</cp:revision>
  <dc:subject/>
  <dc:title>Slide 1</dc:title>
</cp:coreProperties>
</file>